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0E6-C07B-4557-B5AC-7C96A80E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A9C-16D8-4DE7-9550-8EC2DE58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EDE-A271-4229-8E89-6BCF81BF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8B7-83D3-4A78-9340-8FF7DC50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F366-46F3-4EC4-92F3-396F7505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465B-7B1E-4B39-886E-D5707CF3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1A3E-EDC3-47D4-A6A5-3CC293CE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2655-AB45-4402-83AC-1F3BB101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E0CE-E76E-4B56-8FB4-E6ABF3A1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C1E-3E2B-40AC-BAA8-82059693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A1E4-1A7F-472A-825E-3FBC0CE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9F6F-E568-49B0-9D5A-E015A80B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52AE-9FC5-4505-A261-6AE27AE3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91B1-B25D-4A2D-930D-484F39DF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E50D-9FDC-427A-8026-A96CD552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6859-A297-4170-B230-482B559D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405B-A714-44DE-8F6A-A4F7E428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1C8-0A91-4364-8D7A-666D21D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4E9-0041-4666-B4D6-EE3BF5AA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056-8C24-426B-BEB9-17FC3C5C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A97-EFA8-4D49-8B08-B7FF783B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9D2-1EBD-4EF0-B80D-4C96516D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3F9-29BA-4B38-A62D-3B26B8A2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A98-1AFB-45CB-8234-A092182E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D54B-968E-4A5E-85DB-10143E429268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6CD5-830A-4C8F-8C60-8C2AA7FE3993}" type="slidenum">
              <a:rPr b="0" lang="sr-Latn-C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Масаж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рудни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оц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р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укови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143000" y="357120"/>
            <a:ext cx="653256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Положаји за масажу трудница 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157140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Лежећи на бок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мипронирани положа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дећи положај на сто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дећи положај са подигнутим ног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ајање онолико колико њој одгов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асту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јзахтевнији за мас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500120"/>
            <a:ext cx="859788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ahoma"/>
              </a:rPr>
              <a:t>Телесне промен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нов изглед, лабавост зглобова..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ahoma"/>
              </a:rPr>
              <a:t>Емотивне и психолошке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мене (прегледи,тегобе,нова улога у породици, животни приоритети..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ahoma"/>
              </a:rPr>
              <a:t>финансијске и емоционалне: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смањењем радне способности, напуштања посла у току и после трудноће, смањењем примања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7172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сихолошка подршка и разумевање су први корак да се трудница осећа добро и изнесе трудноћу на жељен начи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асажа може помоћи трудници на више начина, првенствено у редукцији напетости и тегоба везаних за локомоторни систе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-4788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4200" y="500040"/>
            <a:ext cx="87408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етман ,,слабих тачака,, у  сваком индивидуалном случају, које су последица претходних болести, повреда или операциј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је се уобичајено јављају код већине трудн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венирати постуралну дисфункцију и одржати  тело труднице у најбољој физичкој и психичкој кондициј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лаксација и емоционална подршка битан елеменат стратегиј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Промене у првом триместр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алаксало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утарња мучнина и повраћа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на груд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бстип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Малаксалост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4200" y="857160"/>
            <a:ext cx="874080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зултат низа трансформација које женско тело доживи да би постало систем који подржава беб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ста у првом и у трећем триместру трудноће. Најбољи лек  је одмор и опуштање,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жбе умереног интензитета и дуже спавањ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лаксација је кључна компнента масаж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Јутарња мучнина/повраћањ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1143000"/>
            <a:ext cx="866916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изички узроци: висок ниво хормона у крви, релаксација мускулатуре ДС, прогресивно истезање мишића утеруса (1/3 до ½ трудниц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сиха (примитивне културе, нежељене и непланиране трудноће, чешћа у првој него у наредним трудноћама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маже промена средине, мањи а чешћи оброци, редовно узимање оброка, узимање оброка пре устајања из кревета, и избегавање хране која очигледно смета због свог укуса или мириса. Препоручује се и опуштање и редукција дневног стреса на све могуће нач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ahoma"/>
              </a:rPr>
              <a:t>Главобоља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трудноћ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ормонске промене, малаксалост, гладовање због мучнине или повраћања, напетост или стре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елики број лекова  против главобоље контраиндикован у трудноћи, масажа може бити врло делотворно и безбедно решењ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асажом је некад могуће купирати бол и код мигренозних напада трудниц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Промене на груди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857160"/>
            <a:ext cx="8526240" cy="52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ће, топлије, отечене и јако осетљиве на додир. Брадавице постају тамније, а  ситне тачке, које представљају резултат појачаног рада лојних жлезда; наглашен венски цртеж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 3. или 4. месеца трудноће, док код других пролазе са престанком дојења. Због наглашене осетљивости, груди труднице не треба масирати. Долази у обзир коришћење хладних облога и евентуално благо глађење у оквиру самомасаж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Трудноћа сама о себи није патолошко ста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врха масаже у овом периоду је првенствено да очува добар осећај и расположење,  и да припреми женино тело и психу на промене које ће се дешавати из дана у да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Обстипациј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143000"/>
            <a:ext cx="85978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жна масажа или самомасажа трбуха, нарочито хват глађења може да помогне, а не шкоди плоду. Стимулишући кожу трбуха могуће је преко кожних рефлекса, стимулисати цревну перисталтику. Дубока масажа и коришћење јачег притиска у регији трбуха се избегава. Груба масажа трбуха удружена је са повећном инциденцом мртворођености. Некада је коришћена за изазивање абортус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Промене у другом триместр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4200" y="2017800"/>
            <a:ext cx="874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крст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трије,пигмент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вишен 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Carpal tunel 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јлепши и најбезбеднији перио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ајем 6 плод је 30 цм, 900 грама тежак, и прави покрете које мајка може регистровати. Груди и стомак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иоду упадљиво повећавају, а телесна тежина труднице раст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7793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крсти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4200" y="928440"/>
            <a:ext cx="8740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ко 50 % трудница (М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or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,1993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из биомеханичких и хормонских промена. Постурални став се током трудноће мења, а тежиште помера&gt; повећање цервикалне и лумбалне лордозе&gt; рамена иду у протракцију, а настају и друге компезаторне промене у локомоторном ситем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 утицајем  хормон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ластина и естроген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, повећава се  елестичност свих везива, а не само везива у порођајном пут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2920" y="1071360"/>
            <a:ext cx="8812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ол у кичменом стубу  може бити резултат сакроилијачне дисфункције, слабости лумбалних мишића или притиска на лумбалне мишиће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асажом: кориговати мишићну неравнотежу, опустити мишиће, повећати проток крви и изазвати генерално опуштање тел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бегавати дуго стајање у месту, спавати на квалитетнм душеку, водити рачуна о положају тела (јасту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триј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56760" y="1071720"/>
            <a:ext cx="859788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е беле расе на кожи груди, стомака и бутина у око 90 % случаје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наглог истезања коже, због повећања димензија тела и пораста ТТ.  Доприноси лична и породична,већа ТТ и хормонске промен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 учесталост појаве струја у узорку трудница које су користиле масажу уљима  из још увек нејасних разлога( појачање циркулације и рефлексни надражај;од 1.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овишен крвни притис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928440"/>
            <a:ext cx="85978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1. пада, нормализује се у 2.  и постепено расте у трећем триместру. Бројни хормони мењају периферни васкуларни отпор, а 10 % трудница има повишен притисак из непознатих разлога. Брига, стрес и анксиозност&gt;масажа  због свог опушајућег и антистресогеног ефект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сер мора пратити ТА труднице. Повишен притисак може бити опасан по здравље и живот и труднице и плода. еклампсије (трудноћом изазвана Х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Carpal tunel S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терано накупљање течности у пределу ручја. Течност врши притисак н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n.medianus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канал ручја чини релативно уски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ађење,трљање,МЛД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мене у трећем триместр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трећем триместру фетус најупадљивије расте, и у телу труднице има све мање простора. Крајем трудноће фетус је око пола метра дуг и 3-4 килограма тежа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падљиве промене постур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мене у трећем триместр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агодност у пределу ребара (положај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ушица и лоше вар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аћење дах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континенција (Кегелове вежб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к чланака и стоп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брадав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перинеу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лагодност у пределу реба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1071720"/>
            <a:ext cx="89550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ајем трудноће. Може бити изазвана притиском који фетус врши (најчешће стопалима) или генералним осећајем притиска на ткива због вишка течности и пораста ТМ. Ако је положај фетуса узрок тегоба, трудница једноставно треба да промени положај. Масажа међуребарних простора и истезање интеркосталних и трбушних мишића може смањити осећај нелагодности. Трудници треба показати самомасажу ове регије, јер се тегобе јављају неочекивано и без правил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,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руго стање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имена великог броја лекова и медицинских поступака је контраиндикована у трудноћ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д користи сви поступци који на нешкодљив начин могу олакшати неке од тегоба везаних за трудноћ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рушица и лоше варењ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Горушица и лоше варење у трудноћи су некад хормонски узроковани, а некад изазвани притиском фетуса на желудац и црева. Промена положаја труднице и блага масажа и самомасажа могу бити од кори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Скраћење дах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трудноћи изазива притисак фетуса на дијафрагму. Често је праћена осећајем недостатка ваздуха. Као и претходне тегобе, ублажава се или решава масажом или самомасажом интеркосталних мишића и трбух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континен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6760" y="1285560"/>
            <a:ext cx="8597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трудноћи најчешће није озбиљан неуролошки проблем, као у осталој популацији, него резултат притиска плода на мокраћну бешику. Јавља се код трудница које имају слабе мишиће перинеума. Решава се применом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егелових вежби.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ве вежбе су корисне и превентивно; оне представљају део оптималне припреме труднице за порођај. Након порођаја проблем инконтиненције се спотано повл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ок чланака и стопал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214280"/>
            <a:ext cx="8955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а око 75 % трудница. Умерен оток, без ТА (прееклампсије) треба толерисати у трудноћи. Мере: елевација ДЕ, ношење удобне обуће, лагане вежбе или шетња. Код израженијих тегоба саветује се ношење еластичних чарап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нуелна масажа или МЛ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сажа може помоћи чак и трудницама чији су отоци изазвани болестима (болести бубрега, болести срца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1714680" y="57240"/>
            <a:ext cx="5715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85920" y="285840"/>
            <a:ext cx="550224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према перинеу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480" y="999720"/>
            <a:ext cx="86691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д 1920. године. У САД се користи у 80-90 % случајева код прворотки и у 50 % случајева код другоротки. Противници епизиотомије- неприродан и непотребан поступак, и третирају је као било коју хирушку интервенцију која носи ризик. Неке акушерске школе преферирају порођај без епизиотомије, и препоручују масажу перинеума, нарочито у последње три недељe трудноће. Због деликатности регије  самомасажа или масажа од стране партнер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Контраиндикације за масажу трудни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42920" y="1356840"/>
            <a:ext cx="881208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тећа руптура овојака пло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времено отворен грлић материц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шеструка трудноћ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еклампсија и хипертенз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роничне болести: дијабет, епилепсија, мултипла склероза, срчане болести, анемија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рварење током трудноћ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ол у стомак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честала мучнина и повраћање, рекурентно повраћање у трећем триместр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8672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траиндикације за масажу трудниц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14200" y="1214280"/>
            <a:ext cx="8740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обичајено отица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ња која траје дуже од 2 с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 ви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обичајене промене тежине, поготову ако су у нескладу са узимањем хра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зница и повишена  температу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е промене феталне актив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крални бо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асажа после трудноћ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асажа беб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оријат масаже трудница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br>
              <a:rPr sz="60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999720"/>
            <a:ext cx="77724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Кини још пре 300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техни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Tui Na, Shiatzy, Tha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Jin S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да би помогле трудницама да се опусте, ослободе стреса и очувају добро здравље током и после трудноће.  У савременој Кини ова пракса релативо ретко заступље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Шведска маса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er Henrik 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пагирала је здрав начин живота, коришћење вежби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кватну исхрану за све категорије становништва, па и за трудниц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а коришћења масаже код трудница у Европским земља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чин да се код трудница отклоне болови, нелагодност у мишић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ркулациј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асажа трудница популарна је у европским земљама, нарочито у последње три децениј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071720" y="214200"/>
            <a:ext cx="6643440" cy="77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Промене у трудноћ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5480" y="2017800"/>
            <a:ext cx="866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Uteru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(материца) повећа своје дименије 5 до 6 пута и повећа тежину 20 пу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Фетална циркулација постепено расте  35-50 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рдиолошки параметри се повећавају 30-6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ни параметри се повећавају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р је потребно обезбедити 15-20 % већу сатурацију кисеони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inser and Colby, 1990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Специфичан задатак за масе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2920" y="1714680"/>
            <a:ext cx="881208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  мора бити блажи, спорији покре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трајање индивидуалн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ложај труднице прилагођен величини и облику т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д 3.-4. месеца трудноће избегава се притисак на крста и доњи део стома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трого индивидуалан приступ у избору технике и трајању масаж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-40752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999720"/>
            <a:ext cx="77724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ећања и потребе трудница су врло разноврсне, као и њихова жеља за додиром од стране непознате особе. Ова осећања се често мењају из крајњости у крајност током трудноће. Зато је неопходно да комуникација између труднице и масера буде јасна и отворена. Многе труднице ће радо и често користити масажу, и биће недвосмислено задовољне постигнутим ефектим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Arial"/>
                <a:ea typeface="Arial"/>
              </a:rPr>
              <a:t>Положаји труднице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о 5-6. месеца уобичаје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 другој половини трудноће фетус у супинираном положају труднице притиск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v cava inferio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, главни крвни суд који враћа крв у ср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рајем трудноће супинирани положај не одговара због притиска који фетус врши на кичмени стуб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1:48:31Z</dcterms:created>
  <dc:creator>korisnik</dc:creator>
  <dc:description/>
  <dc:language>en-US</dc:language>
  <cp:lastModifiedBy>Info</cp:lastModifiedBy>
  <dcterms:modified xsi:type="dcterms:W3CDTF">2018-08-13T20:34:45Z</dcterms:modified>
  <cp:revision>32</cp:revision>
  <dc:subject/>
  <dc:title>Slide 1</dc:title>
</cp:coreProperties>
</file>